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F576A-6EBC-425D-A014-E20E1F6A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C8A77-B867-40F8-BA8B-845178DB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52D8D-CC22-4106-A15F-8D47771D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3A735-11A3-4A5C-8D5E-02C9892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C86B6-2BEA-4329-828E-6173453F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7CDA8-AD05-44B1-8E79-AEFE3F20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63100-E201-4F11-AB4C-3E09AAED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B28D3-4B8B-432B-B52B-384E4260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4F68-9B32-4694-A3E1-E46E260E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3E385-D2DD-4413-9FDF-837404F5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3EF38-A827-4C7A-86BA-2FE16CBD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F28B8-9E5A-496F-BCA3-F231B054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128D6-B0D3-4D4A-B732-D13F250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81D0F-FCF7-48C7-A0D2-F5548875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96B75-D041-489E-A365-62F0A7EA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40C91-58C6-4E81-8467-0F52E785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70EB3-89DF-45E5-9C10-1D6EAEE8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CD551-152E-43AB-93F2-934EACA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904C5-E9ED-4AB9-950F-3DACD5BE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75CEC-D7E7-4E0F-8923-5BEA2186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4F49C-82C8-4EE9-A003-BF331C2E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F364F-936A-49C7-BED1-4A4035AC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CBF8A-4A5C-499F-ACDD-8617136D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CB632-8395-450C-8F92-049F07CF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1A139-213D-4663-933A-40E9105D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AEC52-F602-4EF2-A5A4-6B1DAE05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3D852-60F3-42EA-B831-023509C5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35953-5A8E-45F5-915E-EFF4C65A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04EE0-F92C-4DD6-9C91-60172D6F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015E4-67F2-4799-BAD4-CD3BC12A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622-64F8-4A76-9638-39684B1F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D2CDE-518D-4304-BEC5-EB2626A7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2A0A9-B952-49CC-8A2A-D8B3D01E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81974-5EE5-4309-BB07-C665BAC9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F51AE-44AB-48BF-901B-230FAF20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DE027-744B-4505-B691-515C9958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C39F6-A6E9-4002-BD9F-C374A689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D97EB-821A-44A2-9734-96D96256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03830-6EA3-4241-847E-BE063B22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85562-020E-4BF8-BD44-A759E969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BA87D-533C-4119-A6FB-41C207E2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C67-DAD8-4774-AE4D-2B327584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217B6-9CCE-4B04-9844-4118A475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041D6-C324-4ABA-BA0A-C4E8BECE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9BA73-886B-4FF7-8EAB-651349EA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9916D-A8C2-4800-9967-8E84AF86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9B73E-F633-45A1-A591-C8287C0C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72A4B-CD7D-41E4-BB49-C2D1C87C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5A0E4-2DA7-4699-B70B-7CC878BE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DBFF8-44B0-4C28-835F-6264BA75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AB4E1-4E62-4D3C-B6CE-4A8AC50E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3D0EC-5DE7-4487-A9E1-AA4DD866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2C4-7C0C-4B1A-A314-3DC62EF9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848E8-0131-4F4C-BF96-0E069738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BEC1D-49B2-47A9-81A8-708EB09A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3F79F-F20F-4216-99C6-BEC73DA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1EF53-9886-4F2E-BEA2-D7C0C00C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8A7A7-1346-4E89-9F99-FF5D4F46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ABAE8-2F15-4899-A8E9-00D7CA69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AE537-DA6C-4D9D-AD95-3DA9F320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8D4C0-EBCF-4869-8BB3-BE06841C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A3D29-0DCF-4389-BD8A-0A1D2DD3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DB5DC-5EDC-448F-8190-1E2439CF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471-24CC-47F9-B84A-3F6E431B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ED6F0-1778-43B2-B9AC-12811E0F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5E68C-643A-436D-BD38-EEDBEB3F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81B52-0B15-4289-A0CC-77B6F327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A2CE6-E286-497E-BE79-C5A3BA2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942C5-CB8F-4ADF-A924-B41A3DEE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FCE76-08AA-4AE5-A7B8-87BE92F7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DDB8C-91BA-44BD-B62D-8FA9E19A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E39E7-BC0E-4804-AD56-2A469331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CFBD8-D52D-44E4-A8A2-8824148F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7CDE32-FC27-4F62-B5E7-BF3B1CAB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65A-0B7B-4AF1-9272-E91DBB80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11CF7-11A6-47C2-B0A0-E90508C8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1F0FD-83E4-43AE-86D4-9905E2E6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39A5C-775E-4B91-B4E3-F6AAD6E2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63094-5A34-4A9C-AC3F-394C7169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A112B-7B72-4C6D-9D13-0ACA49FB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1C6EB-6807-4B37-B04C-FE42C982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671E7-C059-4D8D-A309-7F7666FA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13A98-74C3-44B3-B479-9799A38F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AC6C6-85AC-4861-9B16-B9DF2C5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347A6-E3A6-4F25-BFFA-5516B658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8FB-A45C-4487-90A3-880E4879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A75FA-3661-4194-BEBC-8E6C1646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4F1BC-6D60-47B6-9813-DBD6765C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FBB02-E64B-43F2-A9B1-F945492E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B2F6F-F63A-42A1-BE2C-363C088F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77D57-40BE-47C9-B194-B3270BFC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8E29E-9A51-40C5-8F0C-170F3B55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7B8A4-CE22-4D2D-A448-F5C98230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6DED8-9D6B-4F8F-A032-9AE2D327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3E68D-A6C4-4148-983D-9D2A8536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6466F-8DEA-4B80-A6EF-B4419F0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0BA-09C0-4972-8549-69E0AD80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AD15B-C334-4476-A111-FF87AF9E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300D7-733D-4457-B947-0BA4DDE1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849B4-0DCE-4B1E-855B-F6D8ED0D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F0C90-F700-4D64-AE4C-76E748F7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3F8C2-C695-4349-AB3A-30C799C9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F97F1-387F-42A1-92A0-BBA7D831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D266B7-2778-4C76-8B54-B2FECE29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631F1-1BCE-4C0E-8549-47D09DCB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E2585-670D-4A30-94F7-08CA82A1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C0CDA-2070-4D23-B92F-5EB83D0B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1A1-B817-449B-8BD5-29D853CA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2ABB9-85FC-49C2-B5D2-4DDCF271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EB301F-4075-46A8-B128-47D2C3F5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D035E-F0B7-4F6E-B0F9-2A4B58BD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D2710-579F-4318-BC0C-A77516B5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5DD52-E7BE-4902-9CFD-12550A93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616BF-F098-4652-99B2-04E9B7AB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427A94-08BE-47DB-A250-2A4A55D5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DF50B-9D48-4177-B5F9-CC7240F0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4032F0-FD81-477D-BD35-F093F85C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49F1E-D6AA-4287-A9CB-C1628177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BB6-B930-498A-B209-8DF7EC85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D4C2A-A482-471B-BD1D-371F2A45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21830D-2660-4CDE-8EF9-3D0CE28A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E6F83-DD28-4DFB-8A66-E592625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47C3F3-8118-48AF-BA52-631FCA4B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EBF0B-8422-4CF6-9C76-DEC066CB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210D1-C875-47AB-9F78-3CCD135C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602EF9-52AD-466D-90BA-EB4450F2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BDC2D-80BD-4E34-B19F-593A404E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2158F-6202-4BD9-828C-1A08543B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53756-7D72-40AC-B5F6-8839FA6A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D93-3556-4F19-8284-6022BEB4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7EE4D-C301-425A-91CB-DC0F2F49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41DFF-01CD-425D-9A72-56BB14C6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FCD58-5CB0-423A-8433-8749CD13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AB717-505D-4764-9B78-17BFD55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F52B4-E915-4E4B-B59E-8A46BE3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86398-CF70-4961-AAF9-4E8FEC48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BF9B9-9FCB-4FE9-ACD5-1EF189B1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AD1D4-AB1C-4F20-8AFD-F1E63932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C9E62-5FF1-4C42-B2D5-FC263098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36350A-0C0B-43DE-8771-0F8338E2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72E-BA02-4B2C-BB53-063A9C1E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8077EB-AF90-4FC9-A0D3-577E6E10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ABFFE4-CAC1-469E-9B96-27156AAC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745F4-B241-47D1-95C8-B3A50A7A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E997BD-F581-4F07-8FAD-176FE791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3B8F4-14BD-4A96-9933-898182E5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97D431-F122-4A79-AE51-7762CE9E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B03FC-6A53-47DC-8194-103F8ADF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E8731D-BA3D-448B-A195-BB8359A2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2A985-4285-4B97-AAD2-50F220D5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80C81-5F91-47BA-BFDA-FA9B6C24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F62-68A1-46EC-A2C3-302FD2F1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699F6-E168-4727-90D5-AFE98AB6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F527D-2EDA-4089-B775-C9B3FC8D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59453-2568-477B-AB46-1385B040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7B26F-977E-4E9B-B0E5-B4C633E8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BCE727-12BF-4C7A-A1F2-FA32F078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F5BF68-316E-45FC-BD48-7DA66EC5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E8EDB6-14F2-4B91-8B65-5C9EA362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44EAF-1F49-41FC-8F32-AA101C19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7DA921-F371-4B5C-9315-9CBDC876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C232A-D35D-46B4-B68E-4E9A374B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1194-484C-48D0-A376-F12855EF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6B0F7-1863-4AC5-8A39-1D58480C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2964BC-9731-4EAE-A630-0AF268F3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92D85-22E5-4797-AB7A-47A59F52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AF8E4-3D9A-4EB2-A5A7-023502A6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6424C7-5627-4ECC-B7F9-03BB9F78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E60E2-DC5F-42DE-AAE1-CEAF9A69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BC5104-A125-49A9-BC9E-555D10C7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3455AC-DD7C-4A18-8D44-39619C6E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366D5A-5AD8-47D6-998B-79713069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8624F-0695-4C9C-A0D2-8CBCB889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D547-9356-4764-A21C-5175E483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C29A90-78DB-4A0A-AD7A-1ABEA362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296DA8-3A12-47E5-9CE7-8567C630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B6418D-7A78-41B3-A651-BBF5CE0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0D7608-2995-44BC-81EE-07144070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6F8A65-E1DE-497B-934E-293398FF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EF21D3-F51A-49F1-B829-9D3E8055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38EE06-2A0C-4B45-9D33-354BDE16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0AED6-3C2C-46F3-9E2D-A4973105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D47CDE-FEC0-4D52-8DEB-EC62B4FA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D070FC-AB4E-4EF0-8256-264CAACA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053A-EE2E-4DBB-BB48-E9EF3980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050F8D-2F20-4AD8-93C0-F62A216C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8ECFAE-8AAC-4490-8716-B519D78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3DE709-6E3F-41D4-BD02-5EE50D31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EACD35-8411-4063-8FEA-12F03064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3F1DFF-8CA6-4C7B-A036-38FDE1E9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447DAF-3C79-4C43-8364-D42AA9D9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F7E2FE-82C6-4BA1-AC37-EB3B47B4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310D0A-1BAB-407E-BEE7-A3205938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8D8287-74C9-48E4-9196-3DDEA65F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5C9A56-5A41-4266-8AFA-C572AA84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9463-DABF-4197-B430-851BD080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FD7771-5B14-4870-95B7-EBA0979A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32B808-18DE-4D79-8341-4DB44D4A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FC9425-1F67-4463-AD5D-7EAC4A2C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46B063-3C32-4931-A073-FF7A020A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2FC9ED-4FF9-429D-8085-777DC14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F0CDF9-0F86-462D-B400-389EFA7A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1C20D8-723B-4C2B-928F-EB240FED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D2F434-A078-4519-B004-FA332656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851A2C-038C-4BBF-82F7-FD68D539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9898-9F99-4AB5-8137-7E2B0FD8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444E-D06F-41A8-8D9E-AE6E3B2B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0820-ACCF-46B0-AABE-9C6C3106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256E-28D2-457E-B584-DCC7109E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55F8-F98D-4DF3-8485-3EB2A7F1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4357-F7FB-42B0-B793-64A56596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E149-3099-4C15-BEE6-10D5D145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CCDA-BE24-4DE7-9DC4-7EAB372E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E345-4FA7-4923-B543-C6203F11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6AF7-BEA9-4D85-9534-89FEDB33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69F6-EF43-4E17-BD78-133BD350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7B6C-61B5-4A40-A376-8E86B62B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0BB7-1A27-4DB7-A7F3-62F0D9D6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1FA4-9D9A-4C98-99B4-6CF12FA4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0CBA-1EFC-47E3-9A1B-030B8C7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DE5A-99A9-4857-97B3-ABB2A434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F4EE-773C-48BC-B2FF-11B145F0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E3C1D-A718-47B3-B714-CE99EDD2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79E00-8642-42F1-9CFB-DDE91219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F95A4-4BFB-4C21-A0FD-82B55BAA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57CBC-26E3-4B09-B41D-297CE384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C2C0D-F5E2-4F4E-B574-45F68537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FFCA-29F0-44F2-8431-23B2303C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56CD-0124-4016-BB64-81026F73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70741-0B18-43D9-B802-F64A54E6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775F-A7D5-443C-9C36-51A6243E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495C-C566-4F76-8B48-17A45192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C9A8-C623-48E0-B24B-5B630232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20324-C9F7-4FB2-A2E4-B05A38CD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052F6-87C7-4E7A-9639-95DCB794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4AE1-9FB3-4133-BA2E-FE9563B7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4904-E0E5-4E0C-A410-68FBFD67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42CF7-24E3-4801-8591-250CEF35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458B6-3E18-4E7A-8B87-877524B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7F614-5769-4A26-BFEB-D844AB25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9C7B5-6A7A-4230-AF1B-93D26810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A383-5840-497B-AA0D-F3B2D6C6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52637-B355-4A82-80D7-2887D136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E5B0-D307-4E90-A61C-65235AEE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1E3C7-4806-4EBE-A4DD-23B7FC6E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AAE07-2630-4A63-AA7C-09CD33A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BA038-B617-43E4-9419-18BD7150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7938-8802-41BE-BDFF-471D6341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5D9E0-F5B5-44EB-9CB6-E5C4B1E5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B10EC-64BC-4812-90FE-09390CA7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CF13D-ECE9-4B4A-A52D-224F34FA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2D154-3761-4545-95E7-9718ECDA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1A76F-39B9-4143-9130-533B2ACC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D152C-4CA2-4049-ACEA-D1541E9F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EF86A-F7FB-4562-8675-28D82F85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E3FF8-E109-4D03-9E4D-5B71A999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676FF-63C4-44F3-A578-BC315FA4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B094D-02AC-45DD-A201-9C32C590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D29A-5441-4EBC-B797-D5E7FA76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61E97-EF22-4F66-AF3A-19FFCF2B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69732-7985-4E2F-89B4-E78C21E1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3A6BD-67A7-4903-9488-9D90DC32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3A6EA-248A-428F-A7BB-A86DAA69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E0C84-292F-4DF8-83C7-F07AF44B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FBF08-567A-4603-8460-A4B16529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0BE45-F64F-46AE-BF23-E8B80E9A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48D4-7DE8-441E-A58D-9E2D93E2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82B8-D96B-4D05-A0F0-B2DEF380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3DA1B-396A-43D0-95B9-5F95A9FE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0E658-8CF6-4D49-9E2F-DB4EE95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11AD4-CB7A-4FE9-902B-04BD2BAE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6D6A9-4619-4D62-91EF-BC28CB03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53D9F-DEB6-4C1A-909B-B2333292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A5F5D-9495-4AA9-9E3A-ADC152DD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F1536-044A-412A-870A-FE704D67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1512C-EBE4-4E7E-82CF-8514B4D2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0167-6F0D-400C-B0A3-DDE949EF677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A016-C834-4B56-8019-AE65675D278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5741-C78D-42DC-9BEA-11CD082B3E2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6968-7B3B-4BCB-8A87-7EAF6D2E947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AB20-4109-4F2F-B8EA-CE3AF123F8B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8AE0-150D-4717-94BA-003D0C1F2B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61D6-5EC3-45E1-A159-C633EE8096C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5757-1D05-400A-9676-EADAFDD0769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1CD7-8DB9-4117-B79D-AB7E2C9CED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00F3-3A8A-47C6-80DE-54980E8904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AB12-EC29-484F-A92E-086B7C22F9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2887-F080-4D70-A9D0-7569379507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AEDF-F91C-4DFC-A4F8-ADAFDCD8A4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122D-02F9-411D-8370-CBE0A863E2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D3E9-769F-45B0-9F8E-F7A12B5D48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34E0-68C3-4DAE-974A-996FBA86C36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3F71-4DC2-4A7C-A355-5B4F071A7C6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66DB-A04A-47E8-BA7E-325CFFD3636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33DC-ACC6-4DC0-9A5E-6914401D524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0F63-3BAD-453C-9BD6-E9AE98231FD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50B8-11B4-4374-836A-06AF1081E4E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2BC9-0612-48C3-B77F-15E1801D912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9F2C-17DC-4CD7-9DEA-62337EC70E1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0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971640" y="1959120"/>
            <a:ext cx="7200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求图上距离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5543640" y="1582560"/>
            <a:ext cx="360036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4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快乐足球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比例尺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矩形 10"/>
          <p:cNvSpPr/>
          <p:nvPr/>
        </p:nvSpPr>
        <p:spPr>
          <a:xfrm>
            <a:off x="971640" y="1473120"/>
            <a:ext cx="746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在比例尺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∶20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地图上量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地的距离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。如果在比例尺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∶40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地图上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地的距离为多少厘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组合 6"/>
          <p:cNvGrpSpPr/>
          <p:nvPr/>
        </p:nvGrpSpPr>
        <p:grpSpPr>
          <a:xfrm>
            <a:off x="863640" y="1230480"/>
            <a:ext cx="7416720" cy="4392360"/>
            <a:chOff x="863640" y="1230480"/>
            <a:chExt cx="7416720" cy="4392360"/>
          </a:xfrm>
        </p:grpSpPr>
        <p:sp>
          <p:nvSpPr>
            <p:cNvPr id="1046" name="矩形 4"/>
            <p:cNvSpPr/>
            <p:nvPr/>
          </p:nvSpPr>
          <p:spPr>
            <a:xfrm>
              <a:off x="863640" y="1230480"/>
              <a:ext cx="741672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解：设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A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，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B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两地的实际距离为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，在比例尺是  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 ∶4000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的地图上，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A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，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B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两地的距离为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y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000000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  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y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.5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在比例尺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 ∶4000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的地图上，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A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，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B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两地的距离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.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47" name="对象 1" descr=""/>
            <p:cNvPicPr/>
            <p:nvPr/>
          </p:nvPicPr>
          <p:blipFill>
            <a:blip r:embed="rId1"/>
            <a:stretch/>
          </p:blipFill>
          <p:spPr>
            <a:xfrm>
              <a:off x="4032000" y="2441160"/>
              <a:ext cx="2919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对象 2" descr=""/>
            <p:cNvPicPr/>
            <p:nvPr/>
          </p:nvPicPr>
          <p:blipFill>
            <a:blip r:embed="rId2"/>
            <a:stretch/>
          </p:blipFill>
          <p:spPr>
            <a:xfrm>
              <a:off x="4752000" y="2441160"/>
              <a:ext cx="94428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对象 4" descr=""/>
            <p:cNvPicPr/>
            <p:nvPr/>
          </p:nvPicPr>
          <p:blipFill>
            <a:blip r:embed="rId3"/>
            <a:stretch/>
          </p:blipFill>
          <p:spPr>
            <a:xfrm>
              <a:off x="3384000" y="3606480"/>
              <a:ext cx="10569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对象 5" descr=""/>
            <p:cNvPicPr/>
            <p:nvPr/>
          </p:nvPicPr>
          <p:blipFill>
            <a:blip r:embed="rId4"/>
            <a:stretch/>
          </p:blipFill>
          <p:spPr>
            <a:xfrm>
              <a:off x="4968000" y="3606480"/>
              <a:ext cx="92232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52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53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54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55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6" name="矩形 19"/>
          <p:cNvSpPr/>
          <p:nvPr/>
        </p:nvSpPr>
        <p:spPr>
          <a:xfrm>
            <a:off x="963720" y="1233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一、下图是某街区的平面示意图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1403280" y="4664160"/>
            <a:ext cx="67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已知学校距中心广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。人民公园位于中心广场东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处，请用“☆”在图中表示出它的大概位置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58" name="Picture 9" descr="YN3"/>
          <p:cNvPicPr/>
          <p:nvPr/>
        </p:nvPicPr>
        <p:blipFill>
          <a:blip r:embed="rId2"/>
          <a:stretch/>
        </p:blipFill>
        <p:spPr>
          <a:xfrm>
            <a:off x="2367000" y="2055960"/>
            <a:ext cx="4427640" cy="2241360"/>
          </a:xfrm>
          <a:prstGeom prst="rect">
            <a:avLst/>
          </a:prstGeom>
          <a:ln w="0">
            <a:noFill/>
          </a:ln>
        </p:spPr>
      </p:pic>
      <p:sp>
        <p:nvSpPr>
          <p:cNvPr id="1059" name="矩形 12"/>
          <p:cNvSpPr/>
          <p:nvPr/>
        </p:nvSpPr>
        <p:spPr>
          <a:xfrm>
            <a:off x="3887640" y="2986200"/>
            <a:ext cx="158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☆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民公园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60" name="组合 3"/>
          <p:cNvGrpSpPr/>
          <p:nvPr/>
        </p:nvGrpSpPr>
        <p:grpSpPr>
          <a:xfrm>
            <a:off x="2932200" y="1801800"/>
            <a:ext cx="3240000" cy="825480"/>
            <a:chOff x="2932200" y="1801800"/>
            <a:chExt cx="3240000" cy="825480"/>
          </a:xfrm>
        </p:grpSpPr>
        <p:sp>
          <p:nvSpPr>
            <p:cNvPr id="1061" name="矩形 13"/>
            <p:cNvSpPr/>
            <p:nvPr/>
          </p:nvSpPr>
          <p:spPr>
            <a:xfrm>
              <a:off x="2932200" y="1801800"/>
              <a:ext cx="32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商业街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62" name="直接连接符 2"/>
            <p:cNvSpPr/>
            <p:nvPr/>
          </p:nvSpPr>
          <p:spPr>
            <a:xfrm>
              <a:off x="3184560" y="2209680"/>
              <a:ext cx="2879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矩形 4"/>
          <p:cNvSpPr/>
          <p:nvPr/>
        </p:nvSpPr>
        <p:spPr>
          <a:xfrm>
            <a:off x="971640" y="140508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中心广场北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处，有一条商业街与幸福路垂直，在图中画线表示出商业街的大概位置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小明家位于中心广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处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4" name="矩形 9"/>
          <p:cNvSpPr/>
          <p:nvPr/>
        </p:nvSpPr>
        <p:spPr>
          <a:xfrm>
            <a:off x="4464000" y="269712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东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5" name="矩形 10"/>
          <p:cNvSpPr/>
          <p:nvPr/>
        </p:nvSpPr>
        <p:spPr>
          <a:xfrm>
            <a:off x="5651640" y="26780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79360" y="2457360"/>
            <a:ext cx="71694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由题中信息求出图上距离并画出平面图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求图上图形的面积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比例尺未知的情况下求图上距离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求改变比例尺后的图上距离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63720" y="152100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实践与操作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求出图上距离，再画一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精密仪器的零件是圆形的，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∶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比例尺画出它的平面图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4" name="组合 5"/>
          <p:cNvGrpSpPr/>
          <p:nvPr/>
        </p:nvGrpSpPr>
        <p:grpSpPr>
          <a:xfrm>
            <a:off x="719280" y="3274920"/>
            <a:ext cx="7705440" cy="2837160"/>
            <a:chOff x="719280" y="3274920"/>
            <a:chExt cx="7705440" cy="2837160"/>
          </a:xfrm>
        </p:grpSpPr>
        <p:pic>
          <p:nvPicPr>
            <p:cNvPr id="1005" name="Picture 9" descr=""/>
            <p:cNvPicPr/>
            <p:nvPr/>
          </p:nvPicPr>
          <p:blipFill>
            <a:blip r:embed="rId2"/>
            <a:stretch/>
          </p:blipFill>
          <p:spPr>
            <a:xfrm>
              <a:off x="5983560" y="4324320"/>
              <a:ext cx="1224000" cy="139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6" name="组合 4"/>
            <p:cNvGrpSpPr/>
            <p:nvPr/>
          </p:nvGrpSpPr>
          <p:grpSpPr>
            <a:xfrm>
              <a:off x="719280" y="3274920"/>
              <a:ext cx="7705440" cy="2837160"/>
              <a:chOff x="719280" y="3274920"/>
              <a:chExt cx="7705440" cy="2837160"/>
            </a:xfrm>
          </p:grpSpPr>
          <p:sp>
            <p:nvSpPr>
              <p:cNvPr id="1007" name="矩形 1"/>
              <p:cNvSpPr/>
              <p:nvPr/>
            </p:nvSpPr>
            <p:spPr>
              <a:xfrm>
                <a:off x="719280" y="3274920"/>
                <a:ext cx="770544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解：设这个精密仪器的零件的直径画在图上为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x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 mm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。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              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＝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                 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x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＝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20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   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20 mm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＝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2 cm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　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画出平面图如右图。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8" name="对象 2" descr=""/>
              <p:cNvPicPr/>
              <p:nvPr/>
            </p:nvPicPr>
            <p:blipFill>
              <a:blip r:embed="rId3"/>
              <a:stretch/>
            </p:blipFill>
            <p:spPr>
              <a:xfrm>
                <a:off x="2320200" y="3761280"/>
                <a:ext cx="292320" cy="68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对象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972880" y="3749400"/>
                <a:ext cx="247320" cy="68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Box 1"/>
          <p:cNvSpPr/>
          <p:nvPr/>
        </p:nvSpPr>
        <p:spPr>
          <a:xfrm>
            <a:off x="985680" y="1089000"/>
            <a:ext cx="73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王叔叔要建一个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的长方形篮球场，请你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∶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比例尺画出篮球场的平面图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11" name="组合 15"/>
          <p:cNvGrpSpPr/>
          <p:nvPr/>
        </p:nvGrpSpPr>
        <p:grpSpPr>
          <a:xfrm>
            <a:off x="1282680" y="2114640"/>
            <a:ext cx="6786720" cy="3934440"/>
            <a:chOff x="1282680" y="2114640"/>
            <a:chExt cx="6786720" cy="3934440"/>
          </a:xfrm>
        </p:grpSpPr>
        <p:grpSp>
          <p:nvGrpSpPr>
            <p:cNvPr id="1012" name="组合 13"/>
            <p:cNvGrpSpPr/>
            <p:nvPr/>
          </p:nvGrpSpPr>
          <p:grpSpPr>
            <a:xfrm>
              <a:off x="1282680" y="2114640"/>
              <a:ext cx="5004360" cy="3934440"/>
              <a:chOff x="1282680" y="2114640"/>
              <a:chExt cx="5004360" cy="3934440"/>
            </a:xfrm>
          </p:grpSpPr>
          <p:sp>
            <p:nvSpPr>
              <p:cNvPr id="1013" name="矩形 6"/>
              <p:cNvSpPr/>
              <p:nvPr/>
            </p:nvSpPr>
            <p:spPr>
              <a:xfrm>
                <a:off x="1282680" y="2114640"/>
                <a:ext cx="5004360" cy="39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解：设长应画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x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米，宽应画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y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米。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＝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x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＝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0.04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0.04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米＝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4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厘米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＝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     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y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＝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0.02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0.02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米＝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厘米     画出平面图如右图。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14" name="对象 1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4720" y="2673000"/>
                <a:ext cx="384480" cy="68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对象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4680" y="2673000"/>
                <a:ext cx="491400" cy="68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6" name="对象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720" y="4290480"/>
                <a:ext cx="363240" cy="68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7" name="对象 9" descr=""/>
              <p:cNvPicPr/>
              <p:nvPr/>
            </p:nvPicPr>
            <p:blipFill>
              <a:blip r:embed="rId4"/>
              <a:stretch/>
            </p:blipFill>
            <p:spPr>
              <a:xfrm>
                <a:off x="3924720" y="4291200"/>
                <a:ext cx="492120" cy="684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18" name="Picture 15" descr=""/>
            <p:cNvPicPr/>
            <p:nvPr/>
          </p:nvPicPr>
          <p:blipFill>
            <a:blip r:embed="rId5"/>
            <a:stretch/>
          </p:blipFill>
          <p:spPr>
            <a:xfrm>
              <a:off x="5278680" y="3357000"/>
              <a:ext cx="2790720" cy="1618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Box 1"/>
          <p:cNvSpPr/>
          <p:nvPr/>
        </p:nvSpPr>
        <p:spPr>
          <a:xfrm>
            <a:off x="880920" y="119700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夏林果的奶奶有一块长方形菜地，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宽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在比例尺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∶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平面图上，这块菜地的面积是多少平方厘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20" name="组合 3"/>
          <p:cNvGrpSpPr/>
          <p:nvPr/>
        </p:nvGrpSpPr>
        <p:grpSpPr>
          <a:xfrm>
            <a:off x="1547640" y="3176640"/>
            <a:ext cx="6409080" cy="2288520"/>
            <a:chOff x="1547640" y="3176640"/>
            <a:chExt cx="6409080" cy="2288520"/>
          </a:xfrm>
        </p:grpSpPr>
        <p:sp>
          <p:nvSpPr>
            <p:cNvPr id="1021" name="矩形 6"/>
            <p:cNvSpPr/>
            <p:nvPr/>
          </p:nvSpPr>
          <p:spPr>
            <a:xfrm>
              <a:off x="1547640" y="3176640"/>
              <a:ext cx="6409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米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0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米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0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000×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000×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×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在比例尺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 ∶20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的平面图上，这块菜地的面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厘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22" name="对象 1" descr=""/>
            <p:cNvPicPr/>
            <p:nvPr/>
          </p:nvPicPr>
          <p:blipFill>
            <a:blip r:embed="rId1"/>
            <a:stretch/>
          </p:blipFill>
          <p:spPr>
            <a:xfrm>
              <a:off x="2699640" y="3717000"/>
              <a:ext cx="6411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对象 2" descr=""/>
            <p:cNvPicPr/>
            <p:nvPr/>
          </p:nvPicPr>
          <p:blipFill>
            <a:blip r:embed="rId2"/>
            <a:stretch/>
          </p:blipFill>
          <p:spPr>
            <a:xfrm>
              <a:off x="5796360" y="3717000"/>
              <a:ext cx="64116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矩形 10"/>
          <p:cNvSpPr/>
          <p:nvPr/>
        </p:nvSpPr>
        <p:spPr>
          <a:xfrm>
            <a:off x="963720" y="144936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把一块直角三角形钢板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∶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比例尺画在图上。两条直角边实际一共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它们长度的比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∶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钢板在图上的面积是多少平方厘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组合 1"/>
          <p:cNvGrpSpPr/>
          <p:nvPr/>
        </p:nvGrpSpPr>
        <p:grpSpPr>
          <a:xfrm>
            <a:off x="938160" y="1125360"/>
            <a:ext cx="7236000" cy="4499280"/>
            <a:chOff x="938160" y="1125360"/>
            <a:chExt cx="7236000" cy="4499280"/>
          </a:xfrm>
        </p:grpSpPr>
        <p:sp>
          <p:nvSpPr>
            <p:cNvPr id="1026" name="矩形 4"/>
            <p:cNvSpPr/>
            <p:nvPr/>
          </p:nvSpPr>
          <p:spPr>
            <a:xfrm>
              <a:off x="938160" y="1125360"/>
              <a:ext cx="72360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解：设两条直角边在图上的长度分别为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、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y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＞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0.8×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0.8×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.8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米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.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米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8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  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　　　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y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.4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3×2.4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.6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钢板在图上的面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.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厘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27" name="对象 2" descr=""/>
            <p:cNvPicPr/>
            <p:nvPr/>
          </p:nvPicPr>
          <p:blipFill>
            <a:blip r:embed="rId1"/>
            <a:stretch/>
          </p:blipFill>
          <p:spPr>
            <a:xfrm>
              <a:off x="2648160" y="2177640"/>
              <a:ext cx="59832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对象 3" descr=""/>
            <p:cNvPicPr/>
            <p:nvPr/>
          </p:nvPicPr>
          <p:blipFill>
            <a:blip r:embed="rId2"/>
            <a:stretch/>
          </p:blipFill>
          <p:spPr>
            <a:xfrm>
              <a:off x="5420160" y="2177640"/>
              <a:ext cx="598320" cy="6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对象 5" descr=""/>
            <p:cNvPicPr/>
            <p:nvPr/>
          </p:nvPicPr>
          <p:blipFill>
            <a:blip r:embed="rId3"/>
            <a:stretch/>
          </p:blipFill>
          <p:spPr>
            <a:xfrm>
              <a:off x="2988360" y="3322080"/>
              <a:ext cx="49140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对象 6" descr=""/>
            <p:cNvPicPr/>
            <p:nvPr/>
          </p:nvPicPr>
          <p:blipFill>
            <a:blip r:embed="rId4"/>
            <a:stretch/>
          </p:blipFill>
          <p:spPr>
            <a:xfrm>
              <a:off x="3888360" y="3322080"/>
              <a:ext cx="51264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对象 7" descr=""/>
            <p:cNvPicPr/>
            <p:nvPr/>
          </p:nvPicPr>
          <p:blipFill>
            <a:blip r:embed="rId5"/>
            <a:stretch/>
          </p:blipFill>
          <p:spPr>
            <a:xfrm>
              <a:off x="3852360" y="3861000"/>
              <a:ext cx="49140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对象 8" descr=""/>
            <p:cNvPicPr/>
            <p:nvPr/>
          </p:nvPicPr>
          <p:blipFill>
            <a:blip r:embed="rId6"/>
            <a:stretch/>
          </p:blipFill>
          <p:spPr>
            <a:xfrm>
              <a:off x="4752720" y="3861000"/>
              <a:ext cx="51264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对象 9" descr=""/>
            <p:cNvPicPr/>
            <p:nvPr/>
          </p:nvPicPr>
          <p:blipFill>
            <a:blip r:embed="rId7"/>
            <a:stretch/>
          </p:blipFill>
          <p:spPr>
            <a:xfrm>
              <a:off x="2700360" y="4941000"/>
              <a:ext cx="256320" cy="68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矩形 1"/>
          <p:cNvSpPr/>
          <p:nvPr/>
        </p:nvSpPr>
        <p:spPr>
          <a:xfrm>
            <a:off x="647640" y="119700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张庄和刘庄相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，在图上只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。刘庄和李庄相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，在同一幅图上刘庄和李庄相距多少厘米？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35" name="组合 5"/>
          <p:cNvGrpSpPr/>
          <p:nvPr/>
        </p:nvGrpSpPr>
        <p:grpSpPr>
          <a:xfrm>
            <a:off x="1871640" y="2951280"/>
            <a:ext cx="5761080" cy="2837160"/>
            <a:chOff x="1871640" y="2951280"/>
            <a:chExt cx="5761080" cy="2837160"/>
          </a:xfrm>
        </p:grpSpPr>
        <p:sp>
          <p:nvSpPr>
            <p:cNvPr id="1036" name="矩形 2"/>
            <p:cNvSpPr/>
            <p:nvPr/>
          </p:nvSpPr>
          <p:spPr>
            <a:xfrm>
              <a:off x="1871640" y="2951280"/>
              <a:ext cx="5761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千米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1000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　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77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千米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77000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 ∶21000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    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7700000×   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1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在同一幅图上刘庄和李庄相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37" name="对象 3" descr=""/>
            <p:cNvPicPr/>
            <p:nvPr/>
          </p:nvPicPr>
          <p:blipFill>
            <a:blip r:embed="rId1"/>
            <a:stretch/>
          </p:blipFill>
          <p:spPr>
            <a:xfrm>
              <a:off x="5580360" y="4040280"/>
              <a:ext cx="87624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对象 4" descr=""/>
            <p:cNvPicPr/>
            <p:nvPr/>
          </p:nvPicPr>
          <p:blipFill>
            <a:blip r:embed="rId2"/>
            <a:stretch/>
          </p:blipFill>
          <p:spPr>
            <a:xfrm>
              <a:off x="4410000" y="4509000"/>
              <a:ext cx="876240" cy="682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矩形 10"/>
          <p:cNvSpPr/>
          <p:nvPr/>
        </p:nvSpPr>
        <p:spPr>
          <a:xfrm>
            <a:off x="954000" y="1468440"/>
            <a:ext cx="721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希望小学的长方形操场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在一张平面图纸上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线段表示操场的长，则宽应画多少厘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40" name="组合 4"/>
          <p:cNvGrpSpPr/>
          <p:nvPr/>
        </p:nvGrpSpPr>
        <p:grpSpPr>
          <a:xfrm>
            <a:off x="1317600" y="3200400"/>
            <a:ext cx="6508800" cy="2837160"/>
            <a:chOff x="1317600" y="3200400"/>
            <a:chExt cx="6508800" cy="2837160"/>
          </a:xfrm>
        </p:grpSpPr>
        <p:sp>
          <p:nvSpPr>
            <p:cNvPr id="1041" name="矩形 4"/>
            <p:cNvSpPr/>
            <p:nvPr/>
          </p:nvSpPr>
          <p:spPr>
            <a:xfrm>
              <a:off x="1317600" y="3200400"/>
              <a:ext cx="65088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50 m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5000 cm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90 m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9000 cm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5 ∶150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9000×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(cm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宽应画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 cm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42" name="对象 1" descr=""/>
            <p:cNvPicPr/>
            <p:nvPr/>
          </p:nvPicPr>
          <p:blipFill>
            <a:blip r:embed="rId1"/>
            <a:stretch/>
          </p:blipFill>
          <p:spPr>
            <a:xfrm>
              <a:off x="5364000" y="4240800"/>
              <a:ext cx="6411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对象 2" descr=""/>
            <p:cNvPicPr/>
            <p:nvPr/>
          </p:nvPicPr>
          <p:blipFill>
            <a:blip r:embed="rId2"/>
            <a:stretch/>
          </p:blipFill>
          <p:spPr>
            <a:xfrm>
              <a:off x="4428000" y="4833360"/>
              <a:ext cx="64116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6:29Z</dcterms:modified>
  <cp:revision>1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